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F0E9E2-692B-4A0E-AE76-93C91F0959F4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C04BC4-B415-4400-8E43-321AFE47DDB7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DBCB-F464-4285-A1B0-F24131C1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CA56-7953-43C4-9A16-055161E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513A-330C-4035-9013-3620CFFE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0016-CC50-4127-979B-7DD52468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8BFC-87F8-49B1-B8C2-3F388345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DE29-92D4-4279-8191-2F14E9D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DCBF-5DE0-41A6-9ECE-CAEAB21A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DF27-C7A9-4846-856D-CAA9D941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968F-0AEE-4316-97AA-74820104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48B-4FCE-4C2D-A409-1591BB8F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899-3850-4534-8BAF-EBBEFEE3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A34-C18F-43A8-8A13-B89399E2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058-58E5-47CB-B1B7-CBC9525B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BF2-F6C1-4F1A-817E-DD1CC70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6B4-7851-4D55-AD17-FBC8B802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145-8D98-4331-A383-AF432276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0B7-CE67-4AD4-BE72-B10F9C95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02E-6DCA-425E-9812-2B831D11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1EF-7F97-4AA7-A627-8847FFAE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3E2-91C9-45BB-AE5B-1C16DFDD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0BA-AD23-43D7-AA06-678FB1F5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9AB-45D8-495E-A9FC-97F09935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0C8E-4E67-48BD-940E-59EE6C98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1444-8458-44CA-A35E-57DCD2AB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Łącznik prostoliniowy 1"/>
          <p:cNvSpPr/>
          <p:nvPr/>
        </p:nvSpPr>
        <p:spPr>
          <a:xfrm flipH="1">
            <a:off x="1653840" y="1773360"/>
            <a:ext cx="748980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Łącznik prostoliniowy 1"/>
          <p:cNvSpPr/>
          <p:nvPr/>
        </p:nvSpPr>
        <p:spPr>
          <a:xfrm flipH="1">
            <a:off x="1653840" y="1944720"/>
            <a:ext cx="748980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ytuł 1"/>
          <p:cNvSpPr/>
          <p:nvPr/>
        </p:nvSpPr>
        <p:spPr>
          <a:xfrm>
            <a:off x="250920" y="421632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valon"/>
                <a:ea typeface="Arial"/>
              </a:rPr>
              <a:t>Poznań Supercomputing and Networking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Podtytuł 2"/>
          <p:cNvGrpSpPr/>
          <p:nvPr/>
        </p:nvGrpSpPr>
        <p:grpSpPr>
          <a:xfrm>
            <a:off x="128520" y="5138640"/>
            <a:ext cx="9015480" cy="1792440"/>
            <a:chOff x="128520" y="5138640"/>
            <a:chExt cx="9015480" cy="1792440"/>
          </a:xfrm>
        </p:grpSpPr>
        <p:pic>
          <p:nvPicPr>
            <p:cNvPr id="186" name="Podtytuł 2" descr=""/>
            <p:cNvPicPr/>
            <p:nvPr/>
          </p:nvPicPr>
          <p:blipFill>
            <a:blip r:embed="rId3"/>
            <a:stretch/>
          </p:blipFill>
          <p:spPr>
            <a:xfrm>
              <a:off x="128520" y="5138640"/>
              <a:ext cx="90154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9360" y="5367240"/>
              <a:ext cx="85694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l. Noskowskiego 12/14, 61-704 Poznań,  POLAND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fice: phone center: (+48 61) 858-20-00, fax: (+48 61) 852-59-54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mail: office@man.poznan.pl, http://www.psnc.p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ytuł 1"/>
          <p:cNvSpPr/>
          <p:nvPr/>
        </p:nvSpPr>
        <p:spPr>
          <a:xfrm>
            <a:off x="255600" y="4781520"/>
            <a:ext cx="8569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valon"/>
                <a:ea typeface="Arial"/>
              </a:rPr>
              <a:t>affiliated to the Institute of Bioorganic Chemistry of the Polish Academy of Sciences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ytuł 1"/>
          <p:cNvSpPr/>
          <p:nvPr/>
        </p:nvSpPr>
        <p:spPr>
          <a:xfrm>
            <a:off x="250920" y="4216320"/>
            <a:ext cx="8569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valon"/>
                <a:ea typeface="Arial"/>
              </a:rPr>
              <a:t>Poznańskie Centrum Superkomputerowo - Sieciow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Podtytuł 2"/>
          <p:cNvGrpSpPr/>
          <p:nvPr/>
        </p:nvGrpSpPr>
        <p:grpSpPr>
          <a:xfrm>
            <a:off x="128520" y="5138640"/>
            <a:ext cx="9058320" cy="1792440"/>
            <a:chOff x="128520" y="5138640"/>
            <a:chExt cx="9058320" cy="1792440"/>
          </a:xfrm>
        </p:grpSpPr>
        <p:pic>
          <p:nvPicPr>
            <p:cNvPr id="227" name="Podtytuł 2" descr=""/>
            <p:cNvPicPr/>
            <p:nvPr/>
          </p:nvPicPr>
          <p:blipFill>
            <a:blip r:embed="rId3"/>
            <a:stretch/>
          </p:blipFill>
          <p:spPr>
            <a:xfrm>
              <a:off x="128520" y="5138640"/>
              <a:ext cx="905832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9360" y="5367240"/>
              <a:ext cx="856944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l. Noskowskiego 12/14, 61-704 Poznań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l : (+48 61) 858-20-00, fax: (+48 61) 852-59-54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mail: office@man.poznan.pl, http://www.pcss.p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Tytuł 1"/>
          <p:cNvSpPr/>
          <p:nvPr/>
        </p:nvSpPr>
        <p:spPr>
          <a:xfrm>
            <a:off x="255600" y="4781520"/>
            <a:ext cx="8569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valon"/>
                <a:ea typeface="Arial"/>
              </a:rPr>
              <a:t>afiliowane przy Instytucie Chemii Bioorganicznej P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AAE108-299B-4871-A617-9E589C48A1DD}" type="slidenum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53CB64-1845-4340-929C-6CDD3F5B72D4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694368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sh Grid C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lf au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0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weł Woln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ig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his is an important change for EUGridPMA. Shouldn’t we collect confirmation from all CAs that SHA2 is put in produc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(the same with other important changes, like key lengt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B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Many issues resulting from new procedures that are not described in CP/C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ccept requests via WWW instead of ma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Verification form in pap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1024-&gt;204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Update certificate profile descrip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New web p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B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et of minor clarifications and corr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that machine is dedicated to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that CN is name with optional suffi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orrect CA expiration 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larify 395 days vs. 1y+1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orrect some misspell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recise Key Changeover s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oubt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The CA should perform operational audits of the CA/RA staff at least once per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How? Any guidelin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chould it have auditable for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oubt 2. Firm personal aquitance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People certificates: the subject should contact RA in F2F meeting, and present photo-id and/or valid official documents showing that the subject is an acceptable EE as defined by CP/C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econfigure CA  (immediatel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O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witch to SHA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Update CP/CPS  (next week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robot certific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ewrite CP/CPS according to RFC364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KI in Pol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olish Grid CA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erena T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LGrid Simple C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ionier PK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Loc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14" descr="mapa PIONIER"/>
          <p:cNvPicPr/>
          <p:nvPr/>
        </p:nvPicPr>
        <p:blipFill>
          <a:blip r:embed="rId1"/>
          <a:stretch/>
        </p:blipFill>
        <p:spPr>
          <a:xfrm>
            <a:off x="4140360" y="2060640"/>
            <a:ext cx="4248000" cy="43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olish Grid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arted and acredited in 20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Valid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originally to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extended to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extended to 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RAs in 7 cities 14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0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2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atistics for Polish Grid 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Hosts and services - 14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People - 242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Wykres 1" descr=""/>
          <p:cNvPicPr/>
          <p:nvPr/>
        </p:nvPicPr>
        <p:blipFill>
          <a:blip r:embed="rId1"/>
          <a:stretch/>
        </p:blipFill>
        <p:spPr>
          <a:xfrm>
            <a:off x="272880" y="3233880"/>
            <a:ext cx="83822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P/C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CP/CPS version 0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ecember 1, 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Not updated since 2009, but there were chan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elf-audit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55 (2 with 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2 + 1 not in check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     </a:t>
            </a: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- 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rostokąt 3" descr=""/>
          <p:cNvPicPr/>
          <p:nvPr/>
        </p:nvPicPr>
        <p:blipFill>
          <a:blip r:embed="rId1"/>
          <a:stretch/>
        </p:blipFill>
        <p:spPr>
          <a:xfrm>
            <a:off x="115920" y="1579680"/>
            <a:ext cx="1414440" cy="1565280"/>
          </a:xfrm>
          <a:prstGeom prst="rect">
            <a:avLst/>
          </a:prstGeom>
          <a:ln w="0">
            <a:noFill/>
          </a:ln>
        </p:spPr>
      </p:pic>
      <p:pic>
        <p:nvPicPr>
          <p:cNvPr id="375" name="Prostokąt 4" descr=""/>
          <p:cNvPicPr/>
          <p:nvPr/>
        </p:nvPicPr>
        <p:blipFill>
          <a:blip r:embed="rId2"/>
          <a:stretch/>
        </p:blipFill>
        <p:spPr>
          <a:xfrm>
            <a:off x="128520" y="2230560"/>
            <a:ext cx="1444680" cy="1560240"/>
          </a:xfrm>
          <a:prstGeom prst="rect">
            <a:avLst/>
          </a:prstGeom>
          <a:ln w="0">
            <a:noFill/>
          </a:ln>
        </p:spPr>
      </p:pic>
      <p:pic>
        <p:nvPicPr>
          <p:cNvPr id="376" name="Prostokąt 5" descr=""/>
          <p:cNvPicPr/>
          <p:nvPr/>
        </p:nvPicPr>
        <p:blipFill>
          <a:blip r:embed="rId3"/>
          <a:stretch/>
        </p:blipFill>
        <p:spPr>
          <a:xfrm>
            <a:off x="122400" y="2889360"/>
            <a:ext cx="1444320" cy="1560240"/>
          </a:xfrm>
          <a:prstGeom prst="rect">
            <a:avLst/>
          </a:prstGeom>
          <a:ln w="0">
            <a:noFill/>
          </a:ln>
        </p:spPr>
      </p:pic>
      <p:pic>
        <p:nvPicPr>
          <p:cNvPr id="377" name="Prostokąt 6" descr=""/>
          <p:cNvPicPr/>
          <p:nvPr/>
        </p:nvPicPr>
        <p:blipFill>
          <a:blip r:embed="rId4"/>
          <a:stretch/>
        </p:blipFill>
        <p:spPr>
          <a:xfrm>
            <a:off x="-103320" y="3597120"/>
            <a:ext cx="19130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The policyIdentifier must include the OID  for this profile: 1.2.840.113612.5.2.2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lon"/>
                <a:ea typeface="Arial"/>
              </a:rPr>
              <a:t>RA must validate the association of the certificate signing reque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Add digest of request to paper verification for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9720" y="958680"/>
            <a:ext cx="73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D iss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44440" y="198900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till SHA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SHA256 was set as default on August 2013. Soon one middleware group in PSNC protested and we set back SHA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valon"/>
                <a:ea typeface="Arial"/>
              </a:rPr>
              <a:t>The plan was to switch from beginning of 2014, but it was not d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weł Wolniewicz</dc:creator>
  <dc:description/>
  <dc:language>en-US</dc:language>
  <cp:lastModifiedBy>Paweł Wolniewicz</cp:lastModifiedBy>
  <dcterms:modified xsi:type="dcterms:W3CDTF">2014-05-13T22:57:43Z</dcterms:modified>
  <cp:revision>22</cp:revision>
  <dc:subject/>
  <dc:title>Slajd 1</dc:title>
</cp:coreProperties>
</file>